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bomb.wav" ContentType="audio/x-wav"/>
  <Override PartName="/ppt/media/coin.wav" ContentType="audio/x-wav"/>
  <Override PartName="/ppt/media/image18.gif" ContentType="image/gif"/>
  <Override PartName="/ppt/media/image20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21.gif" ContentType="image/gif"/>
  <Override PartName="/ppt/media/image1.png" ContentType="image/png"/>
  <Override PartName="/ppt/media/image14.jpeg" ContentType="image/jpeg"/>
  <Override PartName="/ppt/media/image19.gif" ContentType="image/gif"/>
  <Override PartName="/ppt/media/type.wav" ContentType="audio/x-wav"/>
  <Override PartName="/ppt/media/image17.png" ContentType="image/png"/>
  <Override PartName="/ppt/media/image22.png" ContentType="image/png"/>
  <Override PartName="/ppt/media/image6.png" ContentType="image/png"/>
  <Override PartName="/ppt/media/image23.png" ContentType="image/png"/>
  <Override PartName="/ppt/media/applause.wav" ContentType="audio/x-wav"/>
  <Override PartName="/ppt/media/image5.png" ContentType="image/png"/>
  <Override PartName="/ppt/media/whoosh.wav" ContentType="audio/x-wav"/>
  <Override PartName="/ppt/media/image4.png" ContentType="image/png"/>
  <Override PartName="/ppt/media/laser.wav" ContentType="audio/x-wav"/>
  <Override PartName="/ppt/media/image3.png" ContentType="image/png"/>
  <Override PartName="/ppt/media/image2.png" ContentType="image/png"/>
  <Override PartName="/ppt/media/image15.png" ContentType="image/png"/>
  <Override PartName="/ppt/media/drumroll.wav" ContentType="audio/x-wav"/>
  <Override PartName="/ppt/media/image16.png" ContentType="image/png"/>
  <Override PartName="/ppt/media/chimes.wav" ContentType="audio/x-wav"/>
  <Override PartName="/ppt/media/wind.wav" ContentType="audio/x-wav"/>
  <Override PartName="/ppt/media/voltag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9BC1-E7E2-4603-B52D-C398B8C0F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116F-6D78-4E24-8318-59B8317D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3252-9A09-4EE8-A49C-D3E47E4BE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A0F1-F2F9-4B19-950E-A8B027171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6CBC-C86C-441B-91EC-135E3AEB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E465-029C-4E3F-A445-BE1A9DE0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A625-BBCB-4171-9AB5-4B6E485F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DC16-25BB-430F-B226-80CF253C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45DE-627F-43E6-AF69-07612F63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5D32-F2DF-488A-9BBD-4D31AEE7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C75A-A4EF-4330-A4AB-4B43F713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7CF1-E607-40D6-A2FC-D084D260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C7F7-3318-40DB-8DC6-8A19F6FD6E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audio" Target="../media/applause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audio" Target="../media/applause.wav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audio" Target="../media/drumroll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laser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audio" Target="../media/bomb.wav"/><Relationship Id="rId3" Type="http://schemas.openxmlformats.org/officeDocument/2006/relationships/audio" Target="../media/bomb.wav"/><Relationship Id="rId4" Type="http://schemas.openxmlformats.org/officeDocument/2006/relationships/audio" Target="../media/bomb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2436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3ebf1"/>
                </a:solidFill>
                <a:latin typeface="Arial"/>
              </a:rPr>
              <a:t>بسم الله الرحمن الرحيم </a:t>
            </a:r>
            <a:br>
              <a:rPr sz="4400"/>
            </a:br>
            <a:r>
              <a:rPr b="0" lang="ar-SA" sz="4400" spc="-1" strike="noStrike">
                <a:solidFill>
                  <a:srgbClr val="e3ebf1"/>
                </a:solidFill>
                <a:latin typeface="Arial"/>
              </a:rPr>
              <a:t>يسر </a:t>
            </a:r>
            <a:r>
              <a:rPr b="0" lang="ar-SA" sz="4400" spc="-1" strike="noStrike">
                <a:solidFill>
                  <a:srgbClr val="e15970"/>
                </a:solidFill>
                <a:latin typeface="Arial"/>
              </a:rPr>
              <a:t>مدرسة (فلة حجاج </a:t>
            </a:r>
            <a:r>
              <a:rPr b="0" lang="ar-SA" sz="4400" spc="-1" strike="noStrike">
                <a:solidFill>
                  <a:srgbClr val="e15970"/>
                </a:solidFill>
                <a:latin typeface="Wingdings"/>
                <a:ea typeface="Wingdings"/>
              </a:rPr>
              <a:t></a:t>
            </a:r>
            <a:r>
              <a:rPr b="0" lang="ar-SA" sz="4400" spc="-1" strike="noStrike">
                <a:solidFill>
                  <a:srgbClr val="e15970"/>
                </a:solidFill>
                <a:latin typeface="Arial"/>
              </a:rPr>
              <a:t>) الأهلية للبنات</a:t>
            </a:r>
            <a:r>
              <a:rPr b="0" lang="ar-SA" sz="4400" spc="-1" strike="noStrike">
                <a:solidFill>
                  <a:srgbClr val="e3ebf1"/>
                </a:solidFill>
                <a:latin typeface="Arial"/>
              </a:rPr>
              <a:t> </a:t>
            </a:r>
            <a:br>
              <a:rPr sz="4400"/>
            </a:br>
            <a:r>
              <a:rPr b="0" lang="ar-SA" sz="4400" spc="-1" strike="noStrike">
                <a:solidFill>
                  <a:srgbClr val="e3ebf1"/>
                </a:solidFill>
                <a:latin typeface="Arial"/>
              </a:rPr>
              <a:t>أن تعرض لكم </a:t>
            </a:r>
            <a:br>
              <a:rPr sz="4400"/>
            </a:br>
            <a:r>
              <a:rPr b="0" lang="ar-SA" sz="4400" spc="-1" strike="noStrike">
                <a:solidFill>
                  <a:srgbClr val="e3ebf1"/>
                </a:solidFill>
                <a:latin typeface="Arial"/>
              </a:rPr>
              <a:t>برنامج</a:t>
            </a:r>
            <a:br>
              <a:rPr sz="4400"/>
            </a:br>
            <a:r>
              <a:rPr b="0" lang="ar-SA" sz="4400" spc="-1" strike="noStrike">
                <a:solidFill>
                  <a:srgbClr val="f0e500"/>
                </a:solidFill>
                <a:latin typeface="Arial"/>
              </a:rPr>
              <a:t>بعنوان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332000" y="404280"/>
            <a:ext cx="7812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51"/>
              </a:spcBef>
              <a:buClr>
                <a:srgbClr val="f0e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جزى الله فلان  </a:t>
            </a:r>
            <a:r>
              <a:rPr b="1" lang="ar-SA" sz="3000" spc="-1" strike="noStrike">
                <a:solidFill>
                  <a:srgbClr val="f3192e"/>
                </a:solidFill>
                <a:latin typeface="Arial"/>
              </a:rPr>
              <a:t>تكتبُ خطأ</a:t>
            </a: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                 جزا  الله خيرا فلا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51"/>
              </a:spcBef>
              <a:buClr>
                <a:srgbClr val="f0e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الله جل و علا </a:t>
            </a:r>
            <a:r>
              <a:rPr b="1" lang="ar-SA" sz="3000" spc="-1" strike="noStrike">
                <a:solidFill>
                  <a:srgbClr val="f3192e"/>
                </a:solidFill>
                <a:latin typeface="Arial"/>
              </a:rPr>
              <a:t>تكتب خطأ</a:t>
            </a: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                     الله جل و على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51"/>
              </a:spcBef>
              <a:buClr>
                <a:srgbClr val="f0e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مسؤولية  </a:t>
            </a:r>
            <a:r>
              <a:rPr b="1" lang="ar-SA" sz="3000" spc="-1" strike="noStrike">
                <a:solidFill>
                  <a:srgbClr val="f3192e"/>
                </a:solidFill>
                <a:latin typeface="Arial"/>
              </a:rPr>
              <a:t>تكتب خطأ</a:t>
            </a: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                           مسئولي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51"/>
              </a:spcBef>
              <a:buClr>
                <a:srgbClr val="f0e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شؤون  </a:t>
            </a:r>
            <a:r>
              <a:rPr b="1" lang="ar-SA" sz="3000" spc="-1" strike="noStrike">
                <a:solidFill>
                  <a:srgbClr val="f3192e"/>
                </a:solidFill>
                <a:latin typeface="Arial"/>
              </a:rPr>
              <a:t>تكتب خطأ</a:t>
            </a: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                              شئو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00"/>
              </a:spcBef>
              <a:buClr>
                <a:srgbClr val="f0e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يتوضأ </a:t>
            </a:r>
            <a:r>
              <a:rPr b="1" lang="ar-SA" sz="3000" spc="-1" strike="noStrike">
                <a:solidFill>
                  <a:srgbClr val="f3192e"/>
                </a:solidFill>
                <a:latin typeface="Arial"/>
              </a:rPr>
              <a:t>تكتب خطأ</a:t>
            </a:r>
            <a:r>
              <a:rPr b="1" lang="ar-SA" sz="3000" spc="-1" strike="noStrike">
                <a:solidFill>
                  <a:srgbClr val="f0e500"/>
                </a:solidFill>
                <a:latin typeface="Arial"/>
              </a:rPr>
              <a:t>                              يتوضؤ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8360" y="4365720"/>
            <a:ext cx="2087640" cy="2174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924360" y="907920"/>
            <a:ext cx="1528560" cy="552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995640" y="2060640"/>
            <a:ext cx="1528920" cy="552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140360" y="3068640"/>
            <a:ext cx="1528560" cy="552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4211640" y="4221000"/>
            <a:ext cx="1528920" cy="552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4284720" y="5373720"/>
            <a:ext cx="152856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200" spc="-1" strike="noStrike">
                <a:solidFill>
                  <a:srgbClr val="f0e500"/>
                </a:solidFill>
                <a:latin typeface="Arial"/>
              </a:rPr>
              <a:t>ســـــــؤال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ed1175"/>
                </a:solidFill>
                <a:latin typeface="Arial"/>
              </a:rPr>
              <a:t>ما هي أسباب الأخطاء الإملائية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 rtl="1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5000" spc="-1" strike="noStrike">
                <a:solidFill>
                  <a:srgbClr val="f0e500"/>
                </a:solidFill>
                <a:latin typeface="Arial"/>
              </a:rPr>
              <a:t>؟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627280" y="188640"/>
            <a:ext cx="6121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80000"/>
              </a:lnSpc>
              <a:spcBef>
                <a:spcPts val="550"/>
              </a:spcBef>
              <a:buClr>
                <a:srgbClr val="f0e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0e500"/>
                </a:solidFill>
                <a:latin typeface="Arial"/>
              </a:rPr>
              <a:t>أسباب الأخطاء الإملائية </a:t>
            </a:r>
            <a:br>
              <a:rPr sz="2200"/>
            </a:br>
            <a:br>
              <a:rPr sz="22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ضعف السمع والبصر وعدم الرعاية الصحيحة والنفسية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2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القدرة على التمييز بين الأصوات المتقاربة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3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نسيان القاعدة الإملائية الضابطة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4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الضعف في القراءة وعدم التدريب الكافي عليها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5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تدريس الإملاء على أنه طريقة اختبارية تقوم على اختبار التلميذ في كلمات صعبة بعيدة عن القاموس الكتابي للتلميذ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6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ربط الإملاء بفروع اللغة العربية. </a:t>
            </a:r>
            <a:br>
              <a:rPr sz="2500"/>
            </a:b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7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إهمال أسس التهجي السليم الذي يعتمد على العين والأذن واليد. </a:t>
            </a:r>
            <a:br>
              <a:rPr sz="2500"/>
            </a:b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8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تصويب الأخطاء مباشرة. </a:t>
            </a:r>
            <a:br>
              <a:rPr sz="2500"/>
            </a:b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9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التصحيح التقليدي لأخطاء التلاميذ وعدم مشاركة التلميذ في تصحيح الأخطاء. </a:t>
            </a:r>
            <a:br>
              <a:rPr sz="2500"/>
            </a:br>
            <a:br>
              <a:rPr sz="2200"/>
            </a:br>
            <a:r>
              <a:rPr b="1" lang="ar-SA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8360" y="4508640"/>
            <a:ext cx="20988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627280" y="188640"/>
            <a:ext cx="6121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80000"/>
              </a:lnSpc>
              <a:spcBef>
                <a:spcPts val="550"/>
              </a:spcBef>
              <a:buClr>
                <a:srgbClr val="f0e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0e500"/>
                </a:solidFill>
                <a:latin typeface="Arial"/>
              </a:rPr>
              <a:t>أسباب الأخطاء الإملائية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    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0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استخدام اللهجات العامية في الإملاء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1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السرعة في إملاء القطعة وعدم الوضوح وعدم النطق السليم للحروف والحركات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2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قلة التدريبات المصاحبة لكل درس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3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طول القطعة الإملائية مما يؤدي إلى التعب والوقوع في الخطأ الإملائي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4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الاهتمام بأخطاء التلاميذ الإملائي خارج  كراسات الإملاء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5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التنويع في طرائق التدريس مما يؤدي إلى الملل والانصراف عن الدرس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6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إلمام بعض المعلمين بقواعد الإملاء إلماما كافيا ولا سيما في الهمزات والألف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اللينة. 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17</a:t>
            </a: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- عدم استخدام الوسائل المتنوعة في تدريس الإملاء ولا سيما البطاقات والسبورة الشخصية</a:t>
            </a:r>
            <a:br>
              <a:rPr sz="2500"/>
            </a:br>
            <a:r>
              <a:rPr b="1" lang="ar-SA" sz="2500" spc="-1" strike="noStrike">
                <a:solidFill>
                  <a:srgbClr val="ed1175"/>
                </a:solidFill>
                <a:latin typeface="Arial"/>
              </a:rPr>
              <a:t>والشرائح الشفافة.</a:t>
            </a:r>
            <a:br>
              <a:rPr sz="2500"/>
            </a:br>
            <a:br>
              <a:rPr sz="2500"/>
            </a:br>
            <a:br>
              <a:rPr sz="2200"/>
            </a:b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8360" y="4508640"/>
            <a:ext cx="20988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3628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2050920" y="404280"/>
            <a:ext cx="66470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0e500"/>
                </a:solidFill>
                <a:latin typeface="Arial"/>
              </a:rPr>
              <a:t>إن المتأمل في الأخطاء الإملائية الشائعة، يراها لا تخرج عن: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همزات في وسط الكلمة أو آخرها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ألف اللينة في آخر الكلمة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همزة الوصل والفصل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تاء المربوطة والتاء المفتوحة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5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لام الشمسية واللام القمرية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6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حروف التي تنطق لا تكتب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7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حروف التي تكتب ولا تنطق. </a:t>
            </a:r>
            <a:br>
              <a:rPr sz="3000"/>
            </a:b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8</a:t>
            </a:r>
            <a:r>
              <a:rPr b="1" lang="en-US" sz="3000" spc="-1" strike="noStrike">
                <a:solidFill>
                  <a:srgbClr val="ed1175"/>
                </a:solidFill>
                <a:latin typeface="Arial"/>
              </a:rPr>
              <a:t>- الخلط بين الأصوات المتشابهة أو الحروف المتشابهة رسماً.</a:t>
            </a:r>
            <a:br>
              <a:rPr sz="3000"/>
            </a:br>
            <a:endParaRPr b="0" lang="en-US" sz="3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8360" y="3284640"/>
            <a:ext cx="230328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559640" cy="5133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000" spc="-1" strike="noStrike">
                <a:solidFill>
                  <a:srgbClr val="f31127"/>
                </a:solidFill>
                <a:latin typeface="Arial"/>
              </a:rPr>
              <a:t>إذا ما هو العلاج ؟</a:t>
            </a:r>
            <a:endParaRPr b="0" lang="en-US" sz="7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4110120" cy="5400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627280" y="2708280"/>
            <a:ext cx="2016000" cy="2952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19640" y="2133720"/>
            <a:ext cx="574560" cy="1008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924000" y="188640"/>
            <a:ext cx="4762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31127"/>
                </a:solidFill>
                <a:latin typeface="Arial"/>
              </a:rPr>
              <a:t>للمعلم نقول 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4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- أن يحسن المعلم اختيار القطع الإملائية بحيث تتناسب مع مستوى التلاميذ وتخدم أهدافا متعددة: دينية وتربوية ولغو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4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- كثرة التدريبات والتطبيقات المختلفة على المهارات المطلوبة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4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- أن يقرأ المعلم النص قراءة صحيحة واضحة لا غموض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4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-تكليف التلاميذ بواجبات منزلية تتضمن مهارات مختلفة كأن يجمع التلميذ عشرين كلمة تنتهي بالتاء المربوطة وهكذا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4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عدم التهاون في عملية التصحيح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00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3ebf1"/>
                </a:solidFill>
                <a:latin typeface="Arial"/>
              </a:rPr>
              <a:t>- أن يعتني المعلم بتدريب تلاميذه على أصوات الحروف ولا سيما الحروف المتقاربة في مخارجها الصوتية وفي رسمها.</a:t>
            </a:r>
            <a:r>
              <a:rPr b="0" lang="ar-SA" sz="28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7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8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4110120" cy="5400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627280" y="2708280"/>
            <a:ext cx="2016000" cy="2952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19640" y="2133720"/>
            <a:ext cx="574560" cy="1008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24000" y="188640"/>
            <a:ext cx="4762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31127"/>
                </a:solidFill>
                <a:latin typeface="Arial"/>
              </a:rPr>
              <a:t>للطالب نقول 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تدريب الأذن على حسن الإصغاء لمخارج الحرو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تدريب اللسان على النطق الصحيح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تدريب اليد المستمر على الكتابة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تدريب العين على الرؤية الصحيحة للكلمة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جمع الكلمات الصعبة التي يشكو منها الطالب وكتابتها أكثر من مره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القراءة المستمرة بكافة أنواعه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( مجلات – كتب – قصص – إعلانات ..الخ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4832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هل تريد معرفة المزيد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سأصارحك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بأخطائي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الليلة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482436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1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2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4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6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8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7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8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0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2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4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9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0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2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4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6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708000" y="3715920"/>
            <a:ext cx="5111640" cy="1143000"/>
          </a:xfrm>
          <a:prstGeom prst="rect">
            <a:avLst/>
          </a:prstGeom>
          <a:solidFill>
            <a:srgbClr val="f0e500"/>
          </a:solidFill>
          <a:ln w="9360">
            <a:solidFill>
              <a:srgbClr val="ed1175"/>
            </a:solidFill>
            <a:miter/>
          </a:ln>
          <a:effectLst>
            <a:outerShdw dist="107932" dir="2700000" blurRad="0" rotWithShape="0">
              <a:srgbClr val="ed1175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d1175"/>
                </a:solidFill>
                <a:latin typeface="Arial"/>
                <a:cs typeface="DecoType Naskh Variants"/>
              </a:rPr>
              <a:t>المدرستو الئهلية  لبنات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4038480" cy="4083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3318000">
            <a:off x="4995360" y="2284200"/>
            <a:ext cx="1905120" cy="1025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56000" y="189000"/>
            <a:ext cx="3024000" cy="2376360"/>
          </a:xfrm>
          <a:prstGeom prst="wedgeEllipseCallout">
            <a:avLst>
              <a:gd name="adj1" fmla="val -35199"/>
              <a:gd name="adj2" fmla="val 96828"/>
            </a:avLst>
          </a:prstGeom>
          <a:solidFill>
            <a:srgbClr val="e3ebf1"/>
          </a:solidFill>
          <a:ln w="9360">
            <a:solidFill>
              <a:srgbClr val="ed11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94409a"/>
                </a:solidFill>
                <a:latin typeface="Arial"/>
              </a:rPr>
              <a:t>الجميع يقول لي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94409a"/>
                </a:solidFill>
                <a:latin typeface="Arial"/>
              </a:rPr>
              <a:t>خطك جميل ولكنه </a:t>
            </a:r>
            <a:r>
              <a:rPr b="1" lang="hi-IN" sz="2500" spc="-1" strike="noStrike">
                <a:solidFill>
                  <a:srgbClr val="f3192e"/>
                </a:solidFill>
                <a:latin typeface="Arial"/>
              </a:rPr>
              <a:t>غير مفهوم</a:t>
            </a:r>
            <a:r>
              <a:rPr b="1" lang="en-US" sz="2500" spc="-1" strike="noStrike">
                <a:solidFill>
                  <a:srgbClr val="94409a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94409a"/>
                </a:solidFill>
                <a:latin typeface="Arial"/>
              </a:rPr>
              <a:t>إذا أين الجمال ..؟؟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4324320" cy="4505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df4f67"/>
                </a:solidFill>
                <a:latin typeface="Arial"/>
                <a:cs typeface="Al-Rashed Sayidty"/>
              </a:rPr>
              <a:t>ضعيفًُُُُُُُُ في الإملاء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218440" cy="5759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flipH="1" flipV="1">
            <a:off x="684000" y="3716280"/>
            <a:ext cx="3744720" cy="2665440"/>
          </a:xfrm>
          <a:prstGeom prst="wedgeRoundRectCallout">
            <a:avLst>
              <a:gd name="adj1" fmla="val -48731"/>
              <a:gd name="adj2" fmla="val 72569"/>
              <a:gd name="adj3" fmla="val 16667"/>
            </a:avLst>
          </a:prstGeom>
          <a:solidFill>
            <a:srgbClr val="e3ebf1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0e5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هيا يا صديقي نحاول أن نصحح هذه الأخطاء الشائع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23" presetSubtype="28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5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40000" y="907560"/>
            <a:ext cx="388908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e3ebf1"/>
                </a:solidFill>
                <a:latin typeface="Arial"/>
              </a:rPr>
              <a:t>أين الخطأ  ؟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79640" y="4379400"/>
            <a:ext cx="505296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شربت ماء نقين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309708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applause.wav"/>
      </p:stSnd>
    </p:sndAc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769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769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6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7" dur="769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8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9" dur="769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0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19640" y="274320"/>
            <a:ext cx="252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e3ebf1"/>
                </a:solidFill>
                <a:latin typeface="Arial"/>
              </a:rPr>
              <a:t>الصواب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47640" y="2479680"/>
            <a:ext cx="51120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156360" y="479520"/>
            <a:ext cx="2736720" cy="2301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26920" y="429264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773440" y="2492280"/>
            <a:ext cx="405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ffffff"/>
                </a:solidFill>
                <a:latin typeface="Tahoma"/>
              </a:rPr>
              <a:t>شربت ماءً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18840" y="2492280"/>
            <a:ext cx="209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ffffff"/>
                </a:solidFill>
                <a:latin typeface="Tahoma"/>
              </a:rPr>
              <a:t>نـقـياً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000"/>
                            </p:stCondLst>
                            <p:childTnLst>
                              <p:par>
                                <p:cTn id="47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4700"/>
                            </p:stCondLst>
                            <p:childTnLst>
                              <p:par>
                                <p:cTn id="485" nodeType="afterEffect" fill="hold" presetClass="entr" presetID="5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6300"/>
                            </p:stCondLst>
                            <p:childTnLst>
                              <p:par>
                                <p:cTn id="492" nodeType="afterEffect" fill="hold" presetClass="emph" presetID="35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9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7600"/>
                            </p:stCondLst>
                            <p:childTnLst>
                              <p:par>
                                <p:cTn id="495" nodeType="afterEffect" fill="hold" presetClass="emph" presetID="27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96" dur="50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497" dur="50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98" dur="50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63640" y="404640"/>
            <a:ext cx="3095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 baseline="-25000">
                <a:solidFill>
                  <a:srgbClr val="e3ebf1"/>
                </a:solidFill>
                <a:latin typeface="Arial"/>
                <a:cs typeface="Led Italic Font"/>
              </a:rPr>
              <a:t>أين الخطأ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0000" y="3192480"/>
            <a:ext cx="7632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 المريض يشربو الدواء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 flipH="1" rot="1014600">
            <a:off x="824760" y="83628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e3ebf1"/>
                </a:solidFill>
                <a:latin typeface="Arial"/>
                <a:cs typeface="Kufi Extended Outline"/>
              </a:rPr>
              <a:t>الصواب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64897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المريض  يشربُ الدواء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5280" y="4221000"/>
            <a:ext cx="201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ffff"/>
                </a:solidFill>
                <a:latin typeface="Arial"/>
                <a:cs typeface="Simplified Arabic Fixed"/>
              </a:rPr>
              <a:t>يشرب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" y="4221000"/>
            <a:ext cx="8769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Tahoma"/>
              </a:rPr>
              <a:t>الباء في يشرب مضمومة وليس بعدها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حرف واو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600"/>
                            </p:stCondLst>
                            <p:childTnLst>
                              <p:par>
                                <p:cTn id="528" nodeType="after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0018 -0.05202 L 0.00035 -0.31445 E">
                                      <p:cBhvr>
                                        <p:cTn id="529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4600"/>
                            </p:stCondLst>
                            <p:childTnLst>
                              <p:par>
                                <p:cTn id="531" nodeType="afterEffect" fill="hold" presetClass="emph" presetID="27" repeatCount="400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32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533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34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7600"/>
                            </p:stCondLst>
                            <p:childTnLst>
                              <p:par>
                                <p:cTn id="536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73440" y="295200"/>
            <a:ext cx="35272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3192e"/>
                </a:solidFill>
                <a:latin typeface="Arial"/>
              </a:rPr>
              <a:t>أين الخطأ</a:t>
            </a:r>
            <a:endParaRPr b="0" lang="en-US" sz="6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339640" y="1628280"/>
            <a:ext cx="6491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r" rtl="1">
              <a:lnSpc>
                <a:spcPct val="9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3500" spc="-1" strike="noStrike">
                <a:solidFill>
                  <a:srgbClr val="f0e500"/>
                </a:solidFill>
                <a:latin typeface="Arial"/>
              </a:rPr>
              <a:t>اشمس</a:t>
            </a:r>
            <a:endParaRPr b="0" lang="en-US" sz="1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54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54" nodeType="afterEffect" fill="hold" presetClass="entr" presetID="58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400"/>
                            </p:stCondLst>
                            <p:childTnLst>
                              <p:par>
                                <p:cTn id="562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6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37160" y="287280"/>
            <a:ext cx="402912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468a4b"/>
                </a:solidFill>
                <a:latin typeface="Arial"/>
              </a:rPr>
              <a:t>الصواب هو :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63280" y="1914120"/>
            <a:ext cx="548172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r" rtl="1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4200" spc="-1" strike="noStrike">
                <a:solidFill>
                  <a:srgbClr val="f0e500"/>
                </a:solidFill>
                <a:latin typeface="Arial"/>
              </a:rPr>
              <a:t>الشمس</a:t>
            </a:r>
            <a:endParaRPr b="0" lang="en-US" sz="1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566280" y="5661000"/>
            <a:ext cx="104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ccff"/>
                </a:solidFill>
                <a:latin typeface="Tahoma"/>
              </a:rPr>
              <a:t>لام ( أل ) الشمسية لاتظهر في النطق ,, ولكن تظهر في الكتاب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1873440" cy="17272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applause.wav"/>
      </p:stSnd>
    </p:sndAc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0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56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1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56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500"/>
                            </p:stCondLst>
                            <p:childTnLst>
                              <p:par>
                                <p:cTn id="574" nodeType="afterEffect" fill="hold" presetClass="entr" presetID="38" repeatCount="1000">
                                  <p:stCondLst>
                                    <p:cond delay="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6000"/>
                            </p:stCondLst>
                            <p:childTnLst>
                              <p:par>
                                <p:cTn id="582" nodeType="afterEffect" fill="hold" presetClass="emph" presetID="8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583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8000"/>
                            </p:stCondLst>
                            <p:childTnLst>
                              <p:par>
                                <p:cTn id="58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8000"/>
                            </p:stCondLst>
                            <p:childTnLst>
                              <p:par>
                                <p:cTn id="59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03280" y="764640"/>
            <a:ext cx="237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e3ebf1"/>
                </a:solidFill>
                <a:latin typeface="Arial"/>
              </a:rPr>
              <a:t>أين الخطأ</a:t>
            </a: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137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65440" y="1914480"/>
            <a:ext cx="51213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3880" indent="0" algn="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700" spc="-1" strike="noStrike">
                <a:solidFill>
                  <a:srgbClr val="ffffff"/>
                </a:solidFill>
                <a:latin typeface="Arial"/>
              </a:rPr>
              <a:t>اللباقه</a:t>
            </a:r>
            <a:r>
              <a:rPr b="0" lang="ar-SA" sz="8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8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32000" y="3860640"/>
            <a:ext cx="1512720" cy="15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6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56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7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56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4500"/>
                            </p:stCondLst>
                            <p:childTnLst>
                              <p:par>
                                <p:cTn id="610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8200"/>
                            </p:stCondLst>
                            <p:childTnLst>
                              <p:par>
                                <p:cTn id="617" nodeType="afterEffect" fill="remove" presetClass="emph" presetID="33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1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68a4b"/>
                                      </p:to>
                                    </p:animClr>
                                    <p:animClr clrSpc="rgb">
                                      <p:cBhvr>
                                        <p:cTn id="61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68a4b"/>
                                      </p:to>
                                    </p:animClr>
                                    <p:set>
                                      <p:cBhvr>
                                        <p:cTn id="620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2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700"/>
                            </p:stCondLst>
                            <p:childTnLst>
                              <p:par>
                                <p:cTn id="6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51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e3ebf1"/>
                </a:solidFill>
                <a:latin typeface="Arial"/>
              </a:rPr>
              <a:t>هل عرفت الخطأ ؟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635280" y="1599840"/>
            <a:ext cx="505152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d1175"/>
                </a:solidFill>
                <a:latin typeface="Arial"/>
              </a:rPr>
              <a:t> </a:t>
            </a:r>
            <a:r>
              <a:rPr b="0" lang="ar-SA" sz="5400" spc="-1" strike="noStrike">
                <a:solidFill>
                  <a:srgbClr val="ed1175"/>
                </a:solidFill>
                <a:latin typeface="Arial"/>
              </a:rPr>
              <a:t>نعم ياأبطال كما قلتم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41720" y="3490920"/>
            <a:ext cx="43336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900" spc="-1" strike="noStrike">
                <a:solidFill>
                  <a:srgbClr val="f0e500"/>
                </a:solidFill>
                <a:latin typeface="Tahoma"/>
              </a:rPr>
              <a:t>اللباقة</a:t>
            </a: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04920" y="5881680"/>
            <a:ext cx="53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ccff"/>
                </a:solidFill>
                <a:latin typeface="Tahoma"/>
              </a:rPr>
              <a:t>التاء المربوطة عليها نقطتا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1871640" cy="158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500"/>
                            </p:stCondLst>
                            <p:childTnLst>
                              <p:par>
                                <p:cTn id="6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6500"/>
                            </p:stCondLst>
                            <p:childTnLst>
                              <p:par>
                                <p:cTn id="661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9000"/>
                            </p:stCondLst>
                            <p:childTnLst>
                              <p:par>
                                <p:cTn id="678" nodeType="afterEffect" fill="hold" presetClass="entr" presetID="56">
                                  <p:stCondLst>
                                    <p:cond delay="2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297960" y="404640"/>
            <a:ext cx="61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Tahoma"/>
              </a:rPr>
              <a:t>والآن خذوا هذه الجملة الخاطئة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37080" y="1268280"/>
            <a:ext cx="487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</a:rPr>
              <a:t>واستخرجوا الخطأ منها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77240" y="3141720"/>
            <a:ext cx="515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Tahoma"/>
              </a:rPr>
              <a:t>كتبت بلقلم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201456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500"/>
                            </p:stCondLst>
                            <p:childTnLst>
                              <p:par>
                                <p:cTn id="695" nodeType="afterEffect" fill="hold" presetClass="entr" presetID="5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6000"/>
                            </p:stCondLst>
                            <p:childTnLst>
                              <p:par>
                                <p:cTn id="703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0100"/>
                            </p:stCondLst>
                            <p:childTnLst>
                              <p:par>
                                <p:cTn id="713" nodeType="afterEffect" fill="hold" presetClass="path" presetID="41">
                                  <p:stCondLst>
                                    <p:cond delay="5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animMotion origin="layout" path="M 0 0 C -0.004 -0.01067 -0.018 -0.02133 -0.023 -0.02133 C -0.054 -0.02133 -0.086 0.14534 -0.086 0.312 C -0.086 0.228 -0.102 0.14533 -0.117 0.14533 C -0.133 0.14533 -0.148 0.22933 -0.148 0.312 C -0.148 0.27067 -0.156 0.228 -0.164 0.228 C -0.172 0.228 -0.18 0.26933 -0.18 0.312 C -0.18 0.29067 -0.184 0.27067 -0.188 0.27067 C -0.192 0.27067 -0.196 0.292 -0.196 0.312 C -0.196 0.30133 -0.198 0.29067 -0.2 0.29067 C -0.201 0.29067 -0.204 0.30134 -0.204 0.312 C -0.204 0.30667 -0.205 0.30133 -0.206 0.30133 C -0.206 0.3 -0.208 0.30666 -0.208 0.312 C -0.208 0.30933 -0.208 0.30667 -0.209 0.30667 C -0.209 0.308 -0.21 0.30934 -0.21 0.312 C -0.21 0.31067 -0.21 0.30933 -0.21 0.308 C -0.211 0.308 -0.211 0.30933 -0.211 0.31067 C -0.212 0.31067 -0.212 0.30934 -0.212 0.308 C -0.213 0.308 -0.213 0.30933 -0.213 0.31067 E">
                                      <p:cBhvr>
                                        <p:cTn id="714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3192e"/>
                </a:solidFill>
                <a:latin typeface="Arial"/>
              </a:rPr>
              <a:t>ماذا يجب أن تعرف </a:t>
            </a:r>
            <a:br>
              <a:rPr sz="6000"/>
            </a:br>
            <a:r>
              <a:rPr b="1" lang="hi-IN" sz="6000" spc="-1" strike="noStrike">
                <a:solidFill>
                  <a:srgbClr val="f3192e"/>
                </a:solidFill>
                <a:latin typeface="Arial"/>
              </a:rPr>
              <a:t>قبل أن نبـــدأ </a:t>
            </a:r>
            <a:br>
              <a:rPr sz="6000"/>
            </a:br>
            <a:r>
              <a:rPr b="1" lang="hi-IN" sz="13600" spc="-1" strike="noStrike">
                <a:solidFill>
                  <a:srgbClr val="f3192e"/>
                </a:solidFill>
                <a:latin typeface="Arial"/>
              </a:rPr>
              <a:t>؟</a:t>
            </a:r>
            <a:endParaRPr b="0" lang="en-US" sz="136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68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68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68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68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37680" y="693720"/>
            <a:ext cx="585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هل عرفتم الصواب ياأبطال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51480" y="2662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189000"/>
            <a:ext cx="2736720" cy="1655640"/>
          </a:xfrm>
          <a:prstGeom prst="irregularSeal1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57880" y="2205000"/>
            <a:ext cx="862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Tahoma"/>
              </a:rPr>
              <a:t>كلامكم صحيح ,, وتكون الكلمة كالآتي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44560" y="3284640"/>
            <a:ext cx="37317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700" spc="-1" strike="noStrike">
                <a:solidFill>
                  <a:srgbClr val="ffffff"/>
                </a:solidFill>
                <a:latin typeface="Tahoma"/>
              </a:rPr>
              <a:t>بالقلم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59640" y="5013360"/>
            <a:ext cx="1407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420120" y="5516640"/>
            <a:ext cx="1026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كلمة القلم مبدوءة ب ( أل ) القمرية وسبقتها الباء ,, فلا يحذ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شئ من الكلم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950"/>
                            </p:stCondLst>
                            <p:childTnLst>
                              <p:par>
                                <p:cTn id="726" nodeType="afterEffect" fill="hold" presetClass="entr" presetID="38">
                                  <p:stCondLst>
                                    <p:cond delay="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8" dur="4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456" fill="hold">
                                          <p:stCondLst>
                                            <p:cond delay="4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4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56" autoRev="1" fill="hold">
                                          <p:stCondLst>
                                            <p:cond delay="4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7950"/>
                            </p:stCondLst>
                            <p:childTnLst>
                              <p:par>
                                <p:cTn id="734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9450"/>
                            </p:stCondLst>
                            <p:childTnLst>
                              <p:par>
                                <p:cTn id="741" nodeType="afterEffect" fill="hold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animClr clrSpc="rgb">
                                      <p:cBhvr>
                                        <p:cTn id="743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744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21450"/>
                            </p:stCondLst>
                            <p:childTnLst>
                              <p:par>
                                <p:cTn id="74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28150"/>
                            </p:stCondLst>
                            <p:childTnLst>
                              <p:par>
                                <p:cTn id="753" nodeType="afterEffect" fill="remove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4" dur="5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225960" y="692280"/>
            <a:ext cx="581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PT Bold Broken"/>
              </a:rPr>
              <a:t>أنظروا إلى الخطأ التالي :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Simplified Arabic Fixe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-792000" y="2421000"/>
            <a:ext cx="1087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0000"/>
                </a:solidFill>
                <a:latin typeface="Tahoma"/>
                <a:cs typeface="DecoType Naskh"/>
              </a:rPr>
              <a:t>انطلقت الكرة كـلصاروخ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9360" y="4635360"/>
            <a:ext cx="52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PT Bold Broken"/>
              </a:rPr>
              <a:t>من الذي منكم أكتشفه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Microsoft Sans Serif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116000" y="907920"/>
            <a:ext cx="504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71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6400"/>
                            </p:stCondLst>
                            <p:childTnLst>
                              <p:par>
                                <p:cTn id="778" nodeType="afterEffect" fill="hold" presetClass="entr" presetID="56">
                                  <p:stCondLst>
                                    <p:cond delay="2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300720" y="206064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45160" y="765000"/>
            <a:ext cx="31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9900"/>
                </a:solidFill>
                <a:latin typeface="Arial"/>
                <a:cs typeface="Microsoft Sans Serif"/>
              </a:rPr>
              <a:t>كلامكم صحي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59880" y="1773360"/>
            <a:ext cx="62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  <a:ea typeface="Microsoft Sans Serif"/>
              </a:rPr>
              <a:t>  أين اللام في كلمة الصاروخ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2305080" cy="2187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851120" y="3068640"/>
            <a:ext cx="79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 u="sng">
                <a:solidFill>
                  <a:srgbClr val="0066ff"/>
                </a:solidFill>
                <a:uFillTx/>
                <a:latin typeface="Arial"/>
                <a:cs typeface="Microsoft Sans Serif"/>
              </a:rPr>
              <a:t>وتكون الجملة بعد تصحيحها كالتالي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424720" cy="23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711840" y="4483080"/>
            <a:ext cx="1843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42920" y="4581360"/>
            <a:ext cx="691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ea typeface="DecoType Naskh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DecoType Naskh"/>
              </a:rPr>
              <a:t>انطلقت الكرة كــا  صاروخ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81480" y="4581360"/>
            <a:ext cx="177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ff"/>
                </a:solidFill>
                <a:latin typeface="Arial"/>
                <a:cs typeface="DecoType Naskh"/>
              </a:rPr>
              <a:t>لــــ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540"/>
                            </p:stCondLst>
                            <p:childTnLst>
                              <p:par>
                                <p:cTn id="79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3540"/>
                            </p:stCondLst>
                            <p:childTnLst>
                              <p:par>
                                <p:cTn id="802" nodeType="after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7040"/>
                            </p:stCondLst>
                            <p:childTnLst>
                              <p:par>
                                <p:cTn id="81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0840"/>
                            </p:stCondLst>
                            <p:childTnLst>
                              <p:par>
                                <p:cTn id="8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2840"/>
                            </p:stCondLst>
                            <p:childTnLst>
                              <p:par>
                                <p:cTn id="83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5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38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7880"/>
                            </p:stCondLst>
                            <p:childTnLst>
                              <p:par>
                                <p:cTn id="848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84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245440" cy="57531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d1175"/>
                </a:solidFill>
                <a:latin typeface="Hacen Sudan Bd"/>
                <a:cs typeface="Hacen Sudan Bd"/>
              </a:rPr>
              <a:t>أخيراً </a:t>
            </a:r>
            <a:br>
              <a:rPr sz="4000"/>
            </a:br>
            <a:r>
              <a:rPr b="1" lang="hi-IN" sz="4000" spc="-1" strike="noStrike">
                <a:solidFill>
                  <a:srgbClr val="ed1175"/>
                </a:solidFill>
                <a:latin typeface="Hacen Sudan Bd"/>
                <a:cs typeface="Hacen Sudan Bd"/>
              </a:rPr>
              <a:t>يا صديقتي</a:t>
            </a:r>
            <a:r>
              <a:rPr b="1" lang="en-US" sz="5000" spc="-1" strike="noStrike">
                <a:solidFill>
                  <a:srgbClr val="ed1175"/>
                </a:solidFill>
                <a:latin typeface="Hacen Sudan Bd"/>
                <a:ea typeface="Hacen Sudan Bd"/>
              </a:rPr>
              <a:t> </a:t>
            </a:r>
            <a:endParaRPr b="0" lang="en-US" sz="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492360" y="404280"/>
            <a:ext cx="5483520" cy="54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66ccff"/>
                </a:solidFill>
                <a:latin typeface="Arial"/>
              </a:rPr>
              <a:t>خطو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d1175"/>
                </a:solidFill>
                <a:latin typeface="Arial"/>
              </a:rPr>
              <a:t>فـخطوة</a:t>
            </a: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66ff33"/>
                </a:solidFill>
                <a:latin typeface="Arial"/>
              </a:rPr>
              <a:t>نحــو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0e500"/>
                </a:solidFill>
                <a:latin typeface="Arial"/>
              </a:rPr>
              <a:t>خــط جميل ورائــ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66ccff"/>
                </a:solidFill>
                <a:latin typeface="Arial"/>
              </a:rPr>
              <a:t>خـــالي من </a:t>
            </a:r>
            <a:r>
              <a:rPr b="1" lang="hi-IN" sz="4000" spc="-1" strike="noStrike">
                <a:solidFill>
                  <a:srgbClr val="f3192e"/>
                </a:solidFill>
                <a:latin typeface="Arial"/>
              </a:rPr>
              <a:t>الأخطاء</a:t>
            </a: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 الإملائية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93800" y="1700280"/>
            <a:ext cx="31399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2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2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8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924000" y="981000"/>
            <a:ext cx="476244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df4f67"/>
                </a:solidFill>
                <a:latin typeface="Hacen Sudan Bd"/>
                <a:cs typeface="Hacen Sudan Bd"/>
              </a:rPr>
              <a:t>شاكرين لكم حسن انتباهكم 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66ccff"/>
                </a:solidFill>
                <a:latin typeface="Hacen Sudan Bd"/>
                <a:cs typeface="Hacen Sudan Bd"/>
              </a:rPr>
              <a:t>ومتمنين لكم حياة دراسية بدون أخطاء إملائية </a:t>
            </a:r>
            <a:r>
              <a:rPr b="1" lang="ar-SA" sz="3000" spc="-1" strike="noStrike">
                <a:solidFill>
                  <a:srgbClr val="66ccff"/>
                </a:solidFill>
                <a:latin typeface="Wingdings"/>
                <a:ea typeface="Wingdings"/>
              </a:rPr>
              <a:t></a:t>
            </a:r>
            <a:r>
              <a:rPr b="1" lang="ar-SA" sz="3000" spc="-1" strike="noStrike">
                <a:solidFill>
                  <a:srgbClr val="66ccff"/>
                </a:solidFill>
                <a:latin typeface="Hacen Sudan Bd"/>
                <a:ea typeface="Hacen Sudan Bd"/>
              </a:rPr>
              <a:t> 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df4f67"/>
                </a:solidFill>
                <a:latin typeface="Hacen Sudan Bd"/>
                <a:cs typeface="Hacen Sudan Bd"/>
              </a:rPr>
              <a:t>مع تحيات المعلمة /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66ccff"/>
                </a:solidFill>
                <a:latin typeface="Hacen Sudan Bd"/>
                <a:cs typeface="Hacen Sudan Bd"/>
              </a:rPr>
              <a:t>عجايب بنت الشايب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66ccff"/>
                </a:solidFill>
                <a:latin typeface="Hacen Sudan Bd"/>
                <a:cs typeface="Hacen Sudan Bd"/>
              </a:rPr>
              <a:t>زعيمة مضيف فلة حجاج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66ccff"/>
                </a:solidFill>
                <a:latin typeface="Hacen Sudan Bd"/>
                <a:cs typeface="Hacen Sudan Bd"/>
              </a:rPr>
              <a:t>وعدوة الشيبان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3197160" cy="4105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55640" y="5516640"/>
            <a:ext cx="2808360" cy="36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mmr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15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5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5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5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5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5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15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5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15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5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ed1175"/>
                </a:solidFill>
                <a:latin typeface="Arial"/>
              </a:rPr>
              <a:t>الإملاء الصحيح مهم في حياتنا 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050560" y="1341000"/>
            <a:ext cx="66358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i-IN" sz="2400" spc="-1" strike="noStrike">
                <a:solidFill>
                  <a:srgbClr val="66ff33"/>
                </a:solidFill>
                <a:latin typeface="Arial"/>
              </a:rPr>
              <a:t>تظهرُ اهمية الإملاء في اللغة من كونهِ يؤدي وظيفتهِ اللغوية </a:t>
            </a:r>
            <a:br>
              <a:rPr sz="2400"/>
            </a:br>
            <a:br>
              <a:rPr sz="2400"/>
            </a:br>
            <a:r>
              <a:rPr b="0" lang="hi-IN" sz="2400" spc="-1" strike="noStrike">
                <a:solidFill>
                  <a:srgbClr val="66ff33"/>
                </a:solidFill>
                <a:latin typeface="Arial"/>
              </a:rPr>
              <a:t>بالتوفيق بين القراءةِ والكتابـة ، عن طريق رسم الحروف وترتيبها ، لتركيب الكلمات والجمل </a:t>
            </a:r>
            <a:br>
              <a:rPr sz="2400"/>
            </a:br>
            <a:br>
              <a:rPr sz="2400"/>
            </a:br>
            <a:r>
              <a:rPr b="0" lang="hi-IN" sz="2400" spc="-1" strike="noStrike">
                <a:solidFill>
                  <a:srgbClr val="66ff33"/>
                </a:solidFill>
                <a:latin typeface="Arial"/>
              </a:rPr>
              <a:t>بشكل يؤدي الى فهم المعاني . . . </a:t>
            </a:r>
            <a:br>
              <a:rPr sz="2400"/>
            </a:br>
            <a:br>
              <a:rPr sz="2400"/>
            </a:br>
            <a:r>
              <a:rPr b="0" lang="hi-IN" sz="2400" spc="-1" strike="noStrike">
                <a:solidFill>
                  <a:srgbClr val="66ff33"/>
                </a:solidFill>
                <a:latin typeface="Arial"/>
              </a:rPr>
              <a:t>فإن كانت القواعد النحويــة والضوابط الصرفيـة وسيلة الى صحة الكتابة من النواحي الاعرابية والاشتقاقية </a:t>
            </a:r>
            <a:br>
              <a:rPr sz="2400"/>
            </a:br>
            <a:br>
              <a:rPr sz="2400"/>
            </a:br>
            <a:r>
              <a:rPr b="0" lang="hi-IN" sz="2400" spc="-1" strike="noStrike">
                <a:solidFill>
                  <a:srgbClr val="66ff33"/>
                </a:solidFill>
                <a:latin typeface="Arial"/>
              </a:rPr>
              <a:t>فالإملاء وسيلــة الى صحتها من حيث الصورة الخطيّـة لتؤدي مهمتها في الفهم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0920" y="5373720"/>
            <a:ext cx="1657080" cy="1233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d1175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indefinite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341000"/>
            <a:ext cx="8208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f0e500"/>
                </a:solidFill>
                <a:latin typeface="Arial"/>
              </a:rPr>
              <a:t>هل تعلم ..</a:t>
            </a:r>
            <a:r>
              <a:rPr b="0" lang="en-US" sz="4000" spc="-1" strike="noStrike">
                <a:solidFill>
                  <a:srgbClr val="ed1175"/>
                </a:solidFill>
                <a:latin typeface="Arial"/>
              </a:rPr>
              <a:t> </a:t>
            </a:r>
            <a:br>
              <a:rPr sz="4000"/>
            </a:br>
            <a:r>
              <a:rPr b="0" lang="hi-IN" sz="4000" spc="-1" strike="noStrike">
                <a:solidFill>
                  <a:srgbClr val="ed1175"/>
                </a:solidFill>
                <a:latin typeface="Arial"/>
              </a:rPr>
              <a:t>أنك قد تتعرض لمشاكل</a:t>
            </a:r>
            <a:br>
              <a:rPr sz="4000"/>
            </a:br>
            <a:r>
              <a:rPr b="0" lang="en-US" sz="4000" spc="-1" strike="noStrike">
                <a:solidFill>
                  <a:srgbClr val="ed1175"/>
                </a:solidFill>
                <a:latin typeface="Arial"/>
              </a:rPr>
              <a:t> </a:t>
            </a:r>
            <a:r>
              <a:rPr b="1" lang="hi-IN" sz="8000" spc="-1" strike="noStrike">
                <a:solidFill>
                  <a:srgbClr val="f3192e"/>
                </a:solidFill>
                <a:latin typeface="Arial"/>
                <a:cs typeface="Bader"/>
              </a:rPr>
              <a:t>خطيــــرة</a:t>
            </a:r>
            <a:br>
              <a:rPr sz="8000"/>
            </a:br>
            <a:r>
              <a:rPr b="0" lang="hi-IN" sz="4000" spc="-1" strike="noStrike">
                <a:solidFill>
                  <a:srgbClr val="ed1175"/>
                </a:solidFill>
                <a:latin typeface="Arial"/>
              </a:rPr>
              <a:t>بسبب إملائك الضعيف ؟؟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932360" y="1125360"/>
            <a:ext cx="3898800" cy="3356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3898800" cy="3356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636480"/>
            <a:ext cx="8569080" cy="5816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000" spc="-1" strike="noStrike">
                <a:solidFill>
                  <a:srgbClr val="e96f2b"/>
                </a:solidFill>
                <a:latin typeface="Arial"/>
                <a:cs typeface="Bader"/>
              </a:rPr>
              <a:t>هيا نتعرف</a:t>
            </a:r>
            <a:br>
              <a:rPr sz="7000"/>
            </a:br>
            <a:r>
              <a:rPr b="1" lang="en-US" sz="7000" spc="-1" strike="noStrike">
                <a:solidFill>
                  <a:srgbClr val="e96f2b"/>
                </a:solidFill>
                <a:latin typeface="Arial"/>
                <a:ea typeface="Bader"/>
              </a:rPr>
              <a:t> على  بعض</a:t>
            </a:r>
            <a:br>
              <a:rPr sz="7000"/>
            </a:br>
            <a:r>
              <a:rPr b="1" lang="en-US" sz="7000" spc="-1" strike="noStrike">
                <a:solidFill>
                  <a:srgbClr val="e96f2b"/>
                </a:solidFill>
                <a:latin typeface="Arial"/>
                <a:ea typeface="Bader"/>
              </a:rPr>
              <a:t> هذه الأخطاء </a:t>
            </a:r>
            <a:r>
              <a:rPr b="1" lang="hi-IN" sz="7000" spc="-1" strike="noStrike">
                <a:solidFill>
                  <a:srgbClr val="f3192e"/>
                </a:solidFill>
                <a:latin typeface="Arial"/>
                <a:cs typeface="Bader"/>
              </a:rPr>
              <a:t>الخطيرة</a:t>
            </a:r>
            <a:endParaRPr b="0" lang="en-US" sz="7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5877000"/>
            <a:ext cx="8893080" cy="64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0e500"/>
                </a:solidFill>
                <a:latin typeface="Arial"/>
              </a:rPr>
              <a:t>تعرضت أحد الصحف لمشكله كبيرة بسبب</a:t>
            </a:r>
            <a:br>
              <a:rPr sz="4000"/>
            </a:br>
            <a:r>
              <a:rPr b="1" lang="en-US" sz="4000" spc="-1" strike="noStrike">
                <a:solidFill>
                  <a:srgbClr val="f0e500"/>
                </a:solidFill>
                <a:latin typeface="Arial"/>
              </a:rPr>
              <a:t> خطأ إملائي .. فقد كتبت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...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425600"/>
            <a:ext cx="8351640" cy="50990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f3192e"/>
                </a:solidFill>
                <a:latin typeface="Arial"/>
              </a:rPr>
              <a:t>فضيحة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الشيخ فلان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ffffff"/>
                </a:solidFill>
                <a:latin typeface="Arial"/>
              </a:rPr>
              <a:t>بدلاً من .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66ff33"/>
                </a:solidFill>
                <a:latin typeface="Arial"/>
              </a:rPr>
              <a:t>فضيلة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الشيخ فلان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627280" y="907920"/>
            <a:ext cx="215892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0e500"/>
                </a:solidFill>
                <a:latin typeface="Arial"/>
              </a:rPr>
              <a:t> كذلك في أحد المدارس كُتب في مجلة المدرسة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424720" cy="50162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ffffff"/>
                </a:solidFill>
                <a:latin typeface="Arial"/>
              </a:rPr>
              <a:t>يشكُر المُدرس الطالب </a:t>
            </a:r>
            <a:r>
              <a:rPr b="1" lang="hi-IN" sz="5000" spc="-1" strike="noStrike">
                <a:solidFill>
                  <a:srgbClr val="f3192e"/>
                </a:solidFill>
                <a:latin typeface="Arial"/>
              </a:rPr>
              <a:t>الباطل !!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وكان يقصد (</a:t>
            </a:r>
            <a:r>
              <a:rPr b="1" lang="hi-IN" sz="4400" spc="-1" strike="noStrike">
                <a:solidFill>
                  <a:srgbClr val="66ff33"/>
                </a:solidFill>
                <a:latin typeface="Arial"/>
              </a:rPr>
              <a:t>البـــطـــل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4832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صديقي أنظر إلى أخطائي الإملائية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0e500"/>
                </a:solidFill>
                <a:latin typeface="Arial"/>
              </a:rPr>
              <a:t>التي أتعرض لها دائماً .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482436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2" dur="3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7:29:10Z</dcterms:created>
  <dc:creator>pc</dc:creator>
  <dc:description/>
  <dc:language>en-US</dc:language>
  <cp:lastModifiedBy>pc</cp:lastModifiedBy>
  <dcterms:modified xsi:type="dcterms:W3CDTF">2008-02-28T17:25:48Z</dcterms:modified>
  <cp:revision>9</cp:revision>
  <dc:subject/>
  <dc:title>بسم الله الرحمن الرحيم  يسر مدرسة النعيرية الأهلية للبنات  أن تعرض لكم  برنامج بعنوان</dc:title>
</cp:coreProperties>
</file>